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3CD8-56E5-4705-85A3-D63FCF7F3100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AC86-9FC2-4159-B631-4C64F3273B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F461-85E0-440A-AB4A-89F347C3D7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3CF-E13D-4585-BA53-8809A158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F4F-34EA-4257-B811-A0DC5FB8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120-8DC0-43F1-8A82-65A061EB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0F0-E1B9-4454-A729-82423463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C470-6CCB-4DB3-B5AE-6109D319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8EE1-516D-4FD1-B72B-436F674D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0E89-BFE8-4135-B48F-9453CC73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29DD-6FC2-44DC-B67D-37421890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F0C8-CA85-4774-9D38-02E90CF2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57EB-B8B7-40E7-A525-23B11089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4A71-51FE-4823-ACAF-F124B939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AA0-8CC9-4C62-92AE-476DBA91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BFB5-4DC7-437C-92E2-3C5C18FA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AFC2-6AF9-4AC6-9478-C03B690E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6455-4B44-4752-BBBD-A9123787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B35D-4F8E-40D0-A721-BCC3D108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E1A9-CEE2-4935-B38F-ABEA4888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CF65-C21A-4CC3-868A-E1BFE339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03887-19FC-459C-95E9-7B89A3AD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57D89-BC42-424F-A762-FE478646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DDD6-05B6-4672-9A41-5E560114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8BB43-596A-431B-8424-14F6D187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D58-401F-4B95-B62E-C6D57461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1F8AA-CA01-40C9-AE64-5976A020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CABF1-C9E7-47B4-A7D0-B98B3834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F0FFC-D13C-4CDA-B06F-C1808D7B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EB97C-3F60-4980-AA33-26BEEF08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A4148-DF25-47DE-A436-CAEE4323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621D8-3B44-424A-87CB-6EBE0066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B5646-0CE3-48B2-AED8-F4302D0C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89322-EEA0-475F-B697-D41928D3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1D0B0-E34A-40A9-960F-66460D75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90840-EB0B-4540-B0E4-A16B3C82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5C7-31A1-4613-B645-7D8C2FE4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59C33-9A4C-411B-BCE4-6274DD22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7C157-7CB8-4B5D-B4F0-AEC49736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1A231-B340-4D91-BB10-B031D550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EBFDA-7F3E-4A25-B8E3-78BBC8B1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FE9B5-C16B-4383-973A-EB1964FB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F39BF-59B2-4CD3-A3D1-52633AFD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CA8E9-E778-40C4-8C25-C52B5898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B707B-0D11-4B6A-8AA3-E30C4F65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DA6BC-F4E5-4270-B12A-8E8B3933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C5D-2D3D-4116-B802-EB73EE1F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A3F-64ED-4B51-9064-702E9D64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C5C-ABEF-43C0-A5FB-EBE956D5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FF01-1CF5-4BC8-89B7-C560F81E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1BD-F657-4E5C-80A9-126E7F2F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5BCC-19D1-4410-98BB-6742D9EFFFFE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B460-2A1B-4B96-A869-8051026F49D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8857-AEFF-4D36-B315-29749D822E27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632E-6D64-4107-A91E-2EB4C890787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4D2A-A50B-4EEA-9046-FB416FB42425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E54A-1441-4BCE-92B3-7D3551E14BD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8145-C1F2-48B0-BF62-9D8898818CAD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020E-07BF-4F69-A6A4-428B1B9D406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observer.com/weather/drought/story/1016009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J Developm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TextBox 3" descr=""/>
          <p:cNvPicPr/>
          <p:nvPr/>
        </p:nvPicPr>
        <p:blipFill>
          <a:blip r:embed="rId3"/>
          <a:stretch/>
        </p:blipFill>
        <p:spPr>
          <a:xfrm>
            <a:off x="2664000" y="4413240"/>
            <a:ext cx="37432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urface Area of Ta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752480"/>
          <a:ext cx="8305920" cy="4645080"/>
        </p:xfrm>
        <a:graphic>
          <a:graphicData uri="http://schemas.openxmlformats.org/drawingml/2006/table">
            <a:tbl>
              <a:tblPr/>
              <a:tblGrid>
                <a:gridCol w="838080"/>
                <a:gridCol w="1067040"/>
                <a:gridCol w="758880"/>
                <a:gridCol w="993600"/>
                <a:gridCol w="914400"/>
                <a:gridCol w="1219320"/>
                <a:gridCol w="1365120"/>
                <a:gridCol w="1149480"/>
              </a:tblGrid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us (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 Area 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 (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 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SA 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 of Metal (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 of Concrete (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Cost (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5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6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4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5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6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1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2209320"/>
            <a:ext cx="777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iability vs. C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 it really that good to have a 26m structur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 it </a:t>
            </a: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possibl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to have a 26m structure that will hold its weigh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mount of water use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eway for water use of people in case they need more wa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Level of Accuracy (nearest whole number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ier to see the difference between fig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Storage Ta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s a capacity of 742 000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s in the shape of a cylin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mens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adius: 4 me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eight: 15 me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5" descr=""/>
          <p:cNvPicPr/>
          <p:nvPr/>
        </p:nvPicPr>
        <p:blipFill>
          <a:blip r:embed="rId2"/>
          <a:stretch/>
        </p:blipFill>
        <p:spPr>
          <a:xfrm>
            <a:off x="476280" y="1311120"/>
            <a:ext cx="7832520" cy="14925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art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kind of grain are we stor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w much grain are we putting in storag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kind of shape is the best for storing the gra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kind of grain are we stor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ain can be used to make many types of f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ce, corn, oats, ry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our purposes, we’ll pretend that we’re storing r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grain are we putting in storag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e space that the cooked rice takes up is 3-4 times the space that uncooked rice takes u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person eats about 3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cooked rice per me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cooked rice ≈ 1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uncooked 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kind of shape is best for storing the gra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eal life 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ylinder has the largest area for a fixed perime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ylinders are also used for sil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Examples of Grain Stor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Content Placeholder 10" descr="silos and lorry.JPG"/>
          <p:cNvPicPr/>
          <p:nvPr/>
        </p:nvPicPr>
        <p:blipFill>
          <a:blip r:embed="rId2"/>
          <a:srcRect l="0" t="-17698" r="0" b="-17698"/>
          <a:stretch/>
        </p:blipFill>
        <p:spPr>
          <a:xfrm>
            <a:off x="457200" y="1920960"/>
            <a:ext cx="4038480" cy="4433760"/>
          </a:xfrm>
          <a:prstGeom prst="rect">
            <a:avLst/>
          </a:prstGeom>
          <a:ln w="0">
            <a:noFill/>
          </a:ln>
        </p:spPr>
      </p:pic>
      <p:pic>
        <p:nvPicPr>
          <p:cNvPr id="240" name="Content Placeholder 11" descr="hog grain storage.jpg"/>
          <p:cNvPicPr/>
          <p:nvPr/>
        </p:nvPicPr>
        <p:blipFill>
          <a:blip r:embed="rId3"/>
          <a:srcRect l="0" t="-24477" r="0" b="-24477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685800" y="5791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dengie-crops.com/media/silos%20and%20lorr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9"/>
          <p:cNvSpPr/>
          <p:nvPr/>
        </p:nvSpPr>
        <p:spPr>
          <a:xfrm>
            <a:off x="4724280" y="562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mawaterquality.org/gallery/photos/hog%20grain%20storag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alc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1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uncooked rice × 3 meals × 4 people × 50 families × 14 days = 840 000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f uncooked 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840 0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= 0.84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ed has to have a volume of 0.84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sear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olid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nsw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*this is where a table will go*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his is where our answer will g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ause like, it just is, m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(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-.- no, not really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is is where we write a justification that is not yet thought of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mean, we have to think about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many people in a famil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61 children born/woman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(CIA World Factboo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und down to 2 child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d 2 par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quals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people in a family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3" descr=""/>
          <p:cNvPicPr/>
          <p:nvPr/>
        </p:nvPicPr>
        <p:blipFill>
          <a:blip r:embed="rId2"/>
          <a:stretch/>
        </p:blipFill>
        <p:spPr>
          <a:xfrm>
            <a:off x="476280" y="1311120"/>
            <a:ext cx="7832520" cy="1492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art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water does each person us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do we use water fo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is the best shape to store water 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do we use water fo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n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t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hing (dishes, laundr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il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2286000"/>
            <a:ext cx="7770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ow much water does an average person us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Internet researc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newsobserver.com/weather/drought/story/1016009.htm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69.3 gallons per person for indoor purpos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laundry, shower, toilets, cooking, drinking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vert into lit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gallon = 3.78541178 litre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69.3 gallons ≈</a:t>
            </a:r>
            <a:r>
              <a:rPr b="0" lang="en-US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ＭＳ ゴシック"/>
              </a:rPr>
              <a:t>263 lit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  <a:ea typeface="ＭＳ ゴシック"/>
              </a:rPr>
              <a:t>Leeway: 263 ± 2 litr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is the best shape to store water 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imeter and Circumference vs. Area (of 2-D object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ircle vs. Squa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l life exam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 cylind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s the best shape to store water 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Content Placeholder 5" descr="{72ED8FC0-2FE1-4FAB-AAE2-484FF1A30A82}.JPG"/>
          <p:cNvPicPr/>
          <p:nvPr/>
        </p:nvPicPr>
        <p:blipFill>
          <a:blip r:embed="rId2"/>
          <a:srcRect l="-19287" t="0" r="-19287" b="0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alc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tal amount of water needed for entire villa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65L × 4 people × 50 families × 14 days = 742 000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olume of storage tank: 742 000L of water = 742 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estimation has more water capacity than is necessary because there is an extra 2 litres for every per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1:12:13Z</dcterms:created>
  <dc:creator>Cara Leong</dc:creator>
  <dc:description/>
  <dc:language>en-US</dc:language>
  <cp:lastModifiedBy>Cara Leong</cp:lastModifiedBy>
  <dcterms:modified xsi:type="dcterms:W3CDTF">2008-11-30T11:53:36Z</dcterms:modified>
  <cp:revision>12</cp:revision>
  <dc:subject/>
  <dc:title>Storage Facilities</dc:title>
</cp:coreProperties>
</file>